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642-BB0B-40AC-978E-7B725E8B42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L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C0B-6B7E-4D20-9088-6328A21CB3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5DA4-7561-4419-993A-CC54C40A99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5045-779E-4E8F-AC5D-67A2E82C27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F42-2ABE-4B91-80F3-E0F445C96B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5A5-89BE-4C80-BE40-E5E688AB17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L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C4AA-B8BA-41A2-A51B-79F975C19F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80880" y="4343040"/>
            <a:ext cx="6096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LU" sz="11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0772-3BFA-4177-93F2-36494BEB3B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L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31C3-E33A-4B3F-96C0-D6DD3CC3BF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L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BAA-295F-47CC-8DA5-FB3812BCD8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357120" y="4343400"/>
            <a:ext cx="614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6771-67B9-4EDD-9ECC-E0D73A75D3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80520" y="419112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LU" sz="11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314A-9C12-4ACB-87E9-F01E6131DD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LU" sz="11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70C-472B-42E3-8D56-3CD261E791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557B-7C8D-4A77-A198-E71D9C43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372B-F1E2-46C3-9988-2DE0E233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L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72E-EC55-448F-BB64-37E05F13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L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63E-82E9-494D-85F1-E675C9AA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A86-3DF4-45A3-9129-D1BBA0A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53D-1A4C-48C3-9F03-E6FDDC4A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CFE-EE6E-4E43-93D1-2D400B01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E714-C148-4F00-BDEF-BEE38B01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151-982D-41CF-BE36-C65124C9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44F4-0DF9-40C2-8504-50E6C3B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A6E3-6CFF-420E-A6AC-150DB41F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CA9-9B0E-4610-8D14-CBC667DC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1280" y="11556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B689-EB8E-40BE-B1F6-C31D850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542-8710-4AE1-B0FD-0F69B47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848-77C1-4032-B356-D7AE7D9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0BCE-3AB1-4648-B2FA-F1DF409E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14EE-D06E-49B5-BC4E-A1EF141F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317-AEC4-4E24-BFAE-176BADE3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A57-452C-4E71-95DB-B43DAF4D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99A9-E253-4557-9780-F4A7EEBE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E11C-DA28-47D2-A021-0FCC24FE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6B00-C56D-4961-8A8D-4514EDC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3595-FAF3-4996-8A53-E033D215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2379-11B9-4603-A71C-57C97F3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5C58E-34B7-409E-A07A-4754ED40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75B-CEB5-4658-9DD9-F091FCC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11280" y="11556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C412-E186-4626-9254-CB50E4D1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3C83-FD5C-435C-8455-A639985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F4FF-4EC2-422C-B3F3-6BD55C0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47D3-BF50-404E-9C88-CF210DD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83AB-980E-4D38-AA93-9A440F69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12FE-1B89-4DCB-8563-A0BF2FE9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7529-2229-461C-B8D0-CCB9E9F8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DEB-5795-4162-BBE4-9654FB4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784-0722-4882-AD94-CF29DE71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11280" y="11556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11F-F674-4951-B0C2-26B52E82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891-6199-4E38-A808-8CEACBB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F6C-09E9-42C4-A700-F85AFF6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C95-D029-4003-8408-A4BC659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L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Times New Roman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KaSu"/>
          <p:cNvPicPr/>
          <p:nvPr/>
        </p:nvPicPr>
        <p:blipFill>
          <a:blip r:embed="rId2"/>
          <a:stretch/>
        </p:blipFill>
        <p:spPr>
          <a:xfrm>
            <a:off x="0" y="0"/>
            <a:ext cx="2411280" cy="134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248160" y="6381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L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Times New Roman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KaSu"/>
          <p:cNvPicPr/>
          <p:nvPr/>
        </p:nvPicPr>
        <p:blipFill>
          <a:blip r:embed="rId2"/>
          <a:stretch/>
        </p:blipFill>
        <p:spPr>
          <a:xfrm>
            <a:off x="0" y="0"/>
            <a:ext cx="241128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3928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248160" y="6381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L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Times New Roman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1600" y="530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Trauma und 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Auswirkungen erlebter Traumatisie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auf die Mutter-Kind-Bezi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sychotherapie, Supervision und Weiterbildung in Luxemburg/Luxembourg, Trier"/>
          <p:cNvPicPr/>
          <p:nvPr/>
        </p:nvPicPr>
        <p:blipFill>
          <a:blip r:embed="rId1"/>
          <a:stretch/>
        </p:blipFill>
        <p:spPr>
          <a:xfrm>
            <a:off x="684360" y="1546200"/>
            <a:ext cx="7632720" cy="3683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2411280" y="11592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6509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Trauma – Therapie</a:t>
            </a:r>
            <a:br>
              <a:rPr sz="36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Basic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Aussen und 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Keine weiter Traumat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Aufbau der Therapiebezie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6509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Trauma – Therapie</a:t>
            </a:r>
            <a:br>
              <a:rPr sz="36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 Stabilisierung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Affektmodulation und Affektkontr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Rückgriff auf Ressourc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oziales Ne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elbstfürsorge und Fürsorge für Schutzbefohl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Beziehungs- und Konfliktfäh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innvolle 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Trauma – Therapie</a:t>
            </a:r>
            <a:br>
              <a:rPr sz="36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 Distanzierung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Distanzierungstechn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Sicherer Ort, Tres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726920"/>
            <a:ext cx="8291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Trauma – Therapie</a:t>
            </a:r>
            <a:br>
              <a:rPr sz="36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 Verarbeitung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Bildschirm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EM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Körperpsychothera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6509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Trauma – Therapie</a:t>
            </a:r>
            <a:br>
              <a:rPr sz="36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 Integration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Trauer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Anknüpfen an vor-traumatische Ressourcen und Stä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=&gt; Während des gesamten Proz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291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Bindung -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uerhafte und dyadische Verbundenheit mit anderen Men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geboren: Bindungsbedürf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ndungsbedürfnis vs. Explorationsbedürfn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benslange Aufgabe: Ausbalanc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91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Bindungsbeziehung entsteht von all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indungsverhalten = anb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Zustandekommen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abhängig von der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alität der Bezie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Jedoch: Qualität der Bindungsbeziehungen</a:t>
            </a: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= unterschiedl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icher – unsicher - desorganis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  <p:sp>
        <p:nvSpPr>
          <p:cNvPr id="213" name="Pfeil nach rechts 6"/>
          <p:cNvSpPr/>
          <p:nvPr/>
        </p:nvSpPr>
        <p:spPr>
          <a:xfrm>
            <a:off x="642960" y="307188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Bindung ist wich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indung sichert das Überleben eines Kin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alität der Bindung wichtig für kognitive, emotionale und soziale Entwick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Kinder brauchen Sichere Bindun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22000"/>
            <a:ext cx="8291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ichere Bindung entsteht durch </a:t>
            </a:r>
            <a:br>
              <a:rPr sz="3200"/>
            </a:b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Interaktion und Kommunik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Feinfühligkeit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= kindliche Sig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rke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ichtig interpre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ngemessen darauf reag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Wenn es mir nicht gut geht, wenn ich Hunger habe, wenn ich müde bin, wenn ich Angst habe … dann kann ich das meiner Mama mitteilen. Sie « hört » mich, versteht mich und hilft mir. Meine Mama ist für mich ein Sicherer Hafen.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91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Sichere Bindung ist wich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icherer Hafen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i emotionaler Belastung: Kind such BP auf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Beruhigung emotionaler und physiologischer Erre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ichere Basis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oraussetzung für Explorations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ides sind Voraussetzungen für Lern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  <p:sp>
        <p:nvSpPr>
          <p:cNvPr id="229" name="Pfeil nach rechts 6"/>
          <p:cNvSpPr/>
          <p:nvPr/>
        </p:nvSpPr>
        <p:spPr>
          <a:xfrm>
            <a:off x="1928880" y="285768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ead_superv"/>
          <p:cNvPicPr/>
          <p:nvPr/>
        </p:nvPicPr>
        <p:blipFill>
          <a:blip r:embed="rId1"/>
          <a:stretch/>
        </p:blipFill>
        <p:spPr>
          <a:xfrm>
            <a:off x="755640" y="1500120"/>
            <a:ext cx="7632720" cy="3657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5238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uper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Sichere Bindung ist wichti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  <p:sp>
        <p:nvSpPr>
          <p:cNvPr id="235" name="Ellipse 8"/>
          <p:cNvSpPr/>
          <p:nvPr/>
        </p:nvSpPr>
        <p:spPr>
          <a:xfrm>
            <a:off x="2071800" y="2133720"/>
            <a:ext cx="4633920" cy="415296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llipse 7"/>
          <p:cNvSpPr/>
          <p:nvPr/>
        </p:nvSpPr>
        <p:spPr>
          <a:xfrm>
            <a:off x="2895480" y="2819520"/>
            <a:ext cx="2895840" cy="26431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llipse 6"/>
          <p:cNvSpPr/>
          <p:nvPr/>
        </p:nvSpPr>
        <p:spPr>
          <a:xfrm>
            <a:off x="3733920" y="3581280"/>
            <a:ext cx="1295280" cy="114300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9"/>
          <p:cNvSpPr/>
          <p:nvPr/>
        </p:nvSpPr>
        <p:spPr>
          <a:xfrm>
            <a:off x="3429000" y="23623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LU" sz="2000" spc="-1" strike="noStrike">
                <a:solidFill>
                  <a:srgbClr val="000000"/>
                </a:solidFill>
                <a:latin typeface="Arial"/>
              </a:rPr>
              <a:t>Panik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1"/>
          <p:cNvSpPr/>
          <p:nvPr/>
        </p:nvSpPr>
        <p:spPr>
          <a:xfrm>
            <a:off x="3595680" y="32004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LU" sz="2000" spc="-1" strike="noStrike">
                <a:solidFill>
                  <a:srgbClr val="000000"/>
                </a:solidFill>
                <a:latin typeface="Arial"/>
              </a:rPr>
              <a:t>Lern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12"/>
          <p:cNvSpPr/>
          <p:nvPr/>
        </p:nvSpPr>
        <p:spPr>
          <a:xfrm>
            <a:off x="3886200" y="38098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Arial"/>
              </a:rPr>
              <a:t>Komfort-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Sichere Bindung ist wich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gelskreis = Kreis positiver Gegenseitigkeit zwischen Mutter und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Wichtigster Schutzfaktor für die weitere Entwicklung des Kin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Traumatisierung         &amp;     Mutter-Kind-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500040" y="2428920"/>
          <a:ext cx="8143920" cy="36115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berflutung mit belastenden Gefühlen, hoher innerer Stres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tion der Feinfühligk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. der intuitiven Kompete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drige Erregungsschw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öhere Gewaltbereitscha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e Empfindungslosigk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oziative Sympt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 Gefühl zum 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 Kontakt zum 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fahrung emotionaler, körperlicher, sexueller Gewalt, Vernachlässigung, Abgelehnt we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penster im Kinderzimme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rnehmung des Kindes verzer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hlinterpretationen kindlicher Sig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Traumatisierung     &amp;     Mutter-Kind-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500040" y="2428920"/>
          <a:ext cx="8143920" cy="388620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fahrung mit Bindung: bedeutende BP zerstört Bindungssicherheit wie etwa durch Gew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res Arbeitsmodell von Bindung ist irritierbar und desorganisi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e eigene Bedürftigk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ürftigkeit des Kindes ist bedrohl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stende Schwangerscha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uteriner Stress fürs 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he Irritabilität des Kin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L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wer lesbares 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Was t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icherheit für Mutter und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Trauma bearb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Entwicklungspschologische Bera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Entwicklungspsychologische Bera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Förderung der Mutter-Kind-Beziehung d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Verbesserung der Feinfühl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chaffen von Voraussetzungen für feinfühliges Verh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Akzeptanz bei der Mutter für die Veranlassung weiterer notwendiger Hil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1600" y="544464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Danke für Ihre Aufmerksam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Psychotherapie, Supervision und Weiterbildung in Luxemburg/Luxembourg, Trier"/>
          <p:cNvPicPr/>
          <p:nvPr/>
        </p:nvPicPr>
        <p:blipFill>
          <a:blip r:embed="rId1"/>
          <a:stretch/>
        </p:blipFill>
        <p:spPr>
          <a:xfrm>
            <a:off x="684360" y="1546200"/>
            <a:ext cx="7632720" cy="3683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2411280" y="11592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5238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Psychothera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Spirale im Sand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5238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Weiterbil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head_weiter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52383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Entwicklungspsychologische Bera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ltern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Psychotherapeutische Praxis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2000"/>
            </a:br>
            <a:r>
              <a:rPr b="0" lang="fr-LU" sz="2000" spc="-1" strike="noStrike">
                <a:solidFill>
                  <a:srgbClr val="000000"/>
                </a:solidFill>
                <a:latin typeface="Tahoma"/>
              </a:rPr>
              <a:t>Institut für Supervision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4292280"/>
            <a:ext cx="493236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Karin W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Karin und Susanne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1846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4932360" y="4292640"/>
            <a:ext cx="4211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usanne Stro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91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Trauma </a:t>
            </a:r>
            <a:br>
              <a:rPr sz="32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Was kennzeichnet ein Trau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Ausgangspunkt: Externe Ereig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Erleben des Ereignise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Traumatische Zange: NO FIGHT - NO F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Fol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FREEZE and 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Trauma</a:t>
            </a:r>
            <a:br>
              <a:rPr sz="3200"/>
            </a:br>
            <a:r>
              <a:rPr b="0" lang="fr-LU" sz="2400" spc="-1" strike="noStrike">
                <a:solidFill>
                  <a:srgbClr val="000000"/>
                </a:solidFill>
                <a:latin typeface="Tahoma"/>
              </a:rPr>
              <a:t>Was passiert im Gehi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Hippocamp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Cooles Gedächtnis, Arc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Amyd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3964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.12.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6248520" y="63817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rauma und Bi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422360"/>
            <a:ext cx="829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ahoma"/>
              </a:rPr>
              <a:t>Trauma – Sympt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Intrusion/Wiedererl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Stimulusvermei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ahoma"/>
              </a:rPr>
              <a:t>Physiologische Reak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Spirale im Sand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0:11:49Z</dcterms:created>
  <dc:creator>KaSu</dc:creator>
  <dc:description/>
  <dc:language>en-US</dc:language>
  <cp:lastModifiedBy>---</cp:lastModifiedBy>
  <dcterms:modified xsi:type="dcterms:W3CDTF">2007-01-11T15:10:06Z</dcterms:modified>
  <cp:revision>54</cp:revision>
  <dc:subject/>
  <dc:title>Folie 1</dc:title>
</cp:coreProperties>
</file>